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7FB9-3DE6-438C-9B76-891EFEE401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acher can monitor for errors and then write these on the board afterwards for peer cor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52C3-429E-4EFD-B7B6-9B2E5790FC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necessary, help learners plan, organise and format the letter. Groups can correct errors in each others’ let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0780-5CBB-4417-BADC-68EA4F6C4C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select one simplified article to read and compare it to the origi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71C3-A1DA-4A67-B112-CF336DD8D6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pproximate timings: warmer: discussion (10 mins), error correction (10 mins);  vocabulary: dictation (10 mins), explanation/research (10 mins), word stress (5 mins); pre-reading: predict (10 mins), practice comparatives/superlatives + numbers (10 mins); reading: (10 - 15 mins); speaking/listening: (20 mins); writing: (20 – 30 mins). Total lesson time: around 2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45A1-6AD5-493A-B81C-D5AE49898F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monitor for errors, then write these on the board afterwards to elicit corr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EE12-95E8-4454-A1DD-5844639994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-operative            to nationalise               resources                  inflation              texti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aver                   capitalism                    socialism                   community          to em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lfare state           democracy                   wealth                      credit                 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volution               trading partner             solidarity                   greed                 selfish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0FF6-A555-47AE-A8A5-39C9DD52A4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acher can elicit and mark word stress. Then get learners to select pairs of words then explain how they are linked (eg. a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weaver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works with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extiles; inflation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credit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oth relate to mone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7280-9205-42E2-BDE4-A4BD9179E1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reading: learners, in groups, share what they already know and predict what they are about to re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6524-D802-4681-9169-0C57ECC74D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practice comparatives and superlatives, practice expressing decimals and percentages and find out more about the world context of co-operati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E54E-13E4-4D9B-A174-4E5749524B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ould access the articles on-line or you can give out the readings as handou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57F9-A13C-421C-9171-5509A69CCB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7854-C732-4145-91CD-FAEE79215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9A06-932F-4ECD-BF51-8637A6BE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1184-29FA-4B38-8D76-7F9D08F9E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3780-2C45-48E4-AAE8-8815216D1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E73E-57C8-4B8E-865E-70E58B25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86B7-C0E9-4442-8C4F-9CDFAD6B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F705-6B45-4F68-83B3-59EAE974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5C82-8F7B-4399-87DA-7924D40A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6859-D447-4D14-A894-A01A6CF4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B51A-E8E8-42D9-BDD4-12F8E76C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776C-7865-4FBE-85CF-0A4E2776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A16C-A5A1-42E0-959B-1C933A94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5568-4F2F-48ED-88A0-638069EA1D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Co-operation or competition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360" y="2276280"/>
            <a:ext cx="79912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       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Upper Intermediate   New Internationalist  Easier English ready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ooperation.jpg"/>
          <p:cNvPicPr/>
          <p:nvPr/>
        </p:nvPicPr>
        <p:blipFill>
          <a:blip r:embed="rId1"/>
          <a:stretch/>
        </p:blipFill>
        <p:spPr>
          <a:xfrm>
            <a:off x="136440" y="3351240"/>
            <a:ext cx="3859200" cy="3246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ompetition.jpg"/>
          <p:cNvPicPr/>
          <p:nvPr/>
        </p:nvPicPr>
        <p:blipFill>
          <a:blip r:embed="rId2"/>
          <a:stretch/>
        </p:blipFill>
        <p:spPr>
          <a:xfrm>
            <a:off x="4543560" y="3645000"/>
            <a:ext cx="4545000" cy="321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new internationalist logo black on white.jpg"/>
          <p:cNvPicPr/>
          <p:nvPr/>
        </p:nvPicPr>
        <p:blipFill>
          <a:blip r:embed="rId3"/>
          <a:stretch/>
        </p:blipFill>
        <p:spPr>
          <a:xfrm>
            <a:off x="5076720" y="333360"/>
            <a:ext cx="367668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peaking and listen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groups of 4, share the information you have read and discuss the 4 questions aga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history of co-operatives: how / where / when did they st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are the positives and negatives about co-operativ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ich people started co-operatives, and why?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 see pictures on next slid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re co-operatives a good ide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ig Thinkers on Co-op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50560" y="981000"/>
            <a:ext cx="42447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obert Ow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iedrich Raffeis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eter Kropotk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981000"/>
            <a:ext cx="4038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ynn Margul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linor Ost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avid Sloan Wil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6" descr="robert owen.jpg"/>
          <p:cNvPicPr/>
          <p:nvPr/>
        </p:nvPicPr>
        <p:blipFill>
          <a:blip r:embed="rId1"/>
          <a:stretch/>
        </p:blipFill>
        <p:spPr>
          <a:xfrm>
            <a:off x="2556000" y="1052640"/>
            <a:ext cx="1065240" cy="1144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friedrich raiffeisen.jpg"/>
          <p:cNvPicPr/>
          <p:nvPr/>
        </p:nvPicPr>
        <p:blipFill>
          <a:blip r:embed="rId2"/>
          <a:stretch/>
        </p:blipFill>
        <p:spPr>
          <a:xfrm>
            <a:off x="3059280" y="2781360"/>
            <a:ext cx="1439640" cy="1955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peter kropotkin.jpg"/>
          <p:cNvPicPr/>
          <p:nvPr/>
        </p:nvPicPr>
        <p:blipFill>
          <a:blip r:embed="rId3"/>
          <a:stretch/>
        </p:blipFill>
        <p:spPr>
          <a:xfrm>
            <a:off x="1116000" y="5157720"/>
            <a:ext cx="1711440" cy="1700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lynne margulis.jpg"/>
          <p:cNvPicPr/>
          <p:nvPr/>
        </p:nvPicPr>
        <p:blipFill>
          <a:blip r:embed="rId4"/>
          <a:stretch/>
        </p:blipFill>
        <p:spPr>
          <a:xfrm>
            <a:off x="6732720" y="907920"/>
            <a:ext cx="2055600" cy="2049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elinor ostrom.jpg"/>
          <p:cNvPicPr/>
          <p:nvPr/>
        </p:nvPicPr>
        <p:blipFill>
          <a:blip r:embed="rId5"/>
          <a:stretch/>
        </p:blipFill>
        <p:spPr>
          <a:xfrm>
            <a:off x="7093080" y="2781360"/>
            <a:ext cx="1695240" cy="1708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david sloane wilson.jpg"/>
          <p:cNvPicPr/>
          <p:nvPr/>
        </p:nvPicPr>
        <p:blipFill>
          <a:blip r:embed="rId6"/>
          <a:stretch/>
        </p:blipFill>
        <p:spPr>
          <a:xfrm>
            <a:off x="5219640" y="5084640"/>
            <a:ext cx="151308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magine you have a friend who is interested in starting a co-operative business, but does not know much about co-operati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pairs, write a letter to the friend, explaining about their history, how they work and why it would be a good ide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o to the New Internationalist si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ww.newint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read a) the original articles: http://www.newint.org/themes/politics/economics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b) the simplified on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eewiki.newint.org/index.php/Issue_45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new internationalist.jpg"/>
          <p:cNvPicPr/>
          <p:nvPr/>
        </p:nvPicPr>
        <p:blipFill>
          <a:blip r:embed="rId1"/>
          <a:stretch/>
        </p:blipFill>
        <p:spPr>
          <a:xfrm>
            <a:off x="5867280" y="1844640"/>
            <a:ext cx="22003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oday’s less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arme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discussion / error corr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Vocabulary extension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dictation / explanation / research / word st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Pre-read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predict focus questions / practise of comparatives and superl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Read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groups read different tex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peaking / listen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share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rit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pairs write letter to express vie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alibri"/>
              </a:rPr>
              <a:t>Co-operation</a:t>
            </a: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GB" sz="7200" spc="-1" strike="noStrike">
                <a:solidFill>
                  <a:srgbClr val="000000"/>
                </a:solidFill>
                <a:latin typeface="Calibri"/>
              </a:rPr>
              <a:t>competition</a:t>
            </a: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 – which is best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321264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pairs, discuss which is best in different situations (work, different jobs, education, families/home, food production, international trade, politics etc) – and wh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268280"/>
            <a:ext cx="8713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Divide your page into 3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) Words I know and can explai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b) Words I half-know but couldn’t explai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) Words I don’t know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Now listen to your teacher and write the words in a), b) or c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Then ask others in the class / look up in dictionaries to find out the meanings of words you’ve put in b) and c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w check spelling, meanings and pronunci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25000"/>
            <a:ext cx="4038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co-operativ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to nationaliz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infla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textil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weave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capitalism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socialism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to empowe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052280"/>
            <a:ext cx="4038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welfare stat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wealth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credi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evolu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revolu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trading partne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solidarity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greed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selfishnes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hat do you know about co-operativ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ir history: how / where / when did they st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are the positives and negatives about co-operativ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ich people started co-operatives, and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re co-operatives a good ide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survivalcoop.jpg"/>
          <p:cNvPicPr/>
          <p:nvPr/>
        </p:nvPicPr>
        <p:blipFill>
          <a:blip r:embed="rId1"/>
          <a:stretch/>
        </p:blipFill>
        <p:spPr>
          <a:xfrm>
            <a:off x="6012000" y="4508640"/>
            <a:ext cx="31320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look at these facts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bout co-operativ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newint.org/features/2012/07/16/co-ops-the-facts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airs, take it in turns 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ll each other a fact fro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iagra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cooperative facts.jpg"/>
          <p:cNvPicPr/>
          <p:nvPr/>
        </p:nvPicPr>
        <p:blipFill>
          <a:blip r:embed="rId1"/>
          <a:stretch/>
        </p:blipFill>
        <p:spPr>
          <a:xfrm>
            <a:off x="5292720" y="1901880"/>
            <a:ext cx="350352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ontent Placeholder 3" descr="cooperative facts.jpg"/>
          <p:cNvPicPr/>
          <p:nvPr/>
        </p:nvPicPr>
        <p:blipFill>
          <a:blip r:embed="rId1"/>
          <a:stretch/>
        </p:blipFill>
        <p:spPr>
          <a:xfrm>
            <a:off x="1835280" y="-68400"/>
            <a:ext cx="4897440" cy="69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ading / research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groups of 4, each learner will now read one of the following artic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eewiki.newint.org/index.php/Issue_45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/ Co-operative revolution part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/ Co-operative revolution part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3/ What about co-ops in Cub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4/ Big thinkers on Co-op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All learners make notes on the 4 question on previous sl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cooperation groupworkers.jpg"/>
          <p:cNvPicPr/>
          <p:nvPr/>
        </p:nvPicPr>
        <p:blipFill>
          <a:blip r:embed="rId1"/>
          <a:stretch/>
        </p:blipFill>
        <p:spPr>
          <a:xfrm>
            <a:off x="6153120" y="3213000"/>
            <a:ext cx="28065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0:14:18Z</dcterms:created>
  <dc:creator>IT Technical Support</dc:creator>
  <dc:description/>
  <dc:language>en-US</dc:language>
  <cp:lastModifiedBy>Mix</cp:lastModifiedBy>
  <dcterms:modified xsi:type="dcterms:W3CDTF">2012-09-20T12:42:37Z</dcterms:modified>
  <cp:revision>20</cp:revision>
  <dc:subject/>
  <dc:title>Co-operation or competition?</dc:title>
</cp:coreProperties>
</file>